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7B1F2C-7413-4386-9360-ECB92A832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9CDCF0-A770-4463-9631-E96E11EFE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7D0C15-09EE-4EF1-862E-41751B048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85BD74-CD57-4D8B-A513-4F03ADE3E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9C82E5-D31A-49A9-B726-E57DA0AA2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16E813-BBE9-4E45-AF7C-14DDE040E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343542-459E-4B2E-9A4D-F9E8CB7C6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3748A7-4C3E-491E-AABB-41A0E061F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0FCAC7-F202-40F8-92B1-B9F668AAB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63BD5C-CD62-4A34-99DB-379ED9CD1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D4F3AC-E2E3-4DAD-9A45-5DB8980DD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B35A5D-93F3-4BF3-8B3F-3B625CFD0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5DC2D7-7A24-439C-B406-568906E3C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12198E-3A31-4214-B877-EF2113975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A55EE1-021E-4237-9955-37BF76A19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D4B9-4F26-446E-82A1-A2F90582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30C-4401-48CF-946E-CC05AF50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171-6AE4-4B28-B0DE-2A4723AF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77AF-245D-4AA0-A82B-EEDFD46E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C080-4EB7-4B64-9953-A89EC530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D742-195D-4EDC-B9E8-FF860D67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156B-9108-4F19-BF26-3F4A3D49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BF4C-5D31-46B7-B396-974014E5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A75A-A15B-4737-A35A-451890ED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870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18E0-C1CF-42A0-89E5-98E3563B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F1B1-04B3-4830-A213-43C490C1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C93-7F3A-4210-96EC-FFC2A864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D113-88D2-40AA-B3ED-4AB4DAE6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20CB-3AFA-4A49-BC10-4CFB4EB4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5764-FB23-4923-8FF3-8750B205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EE95-5FAC-4CE7-8DC4-0B72D72C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CF10-6CE5-4163-A615-52C9AE9B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25130-872D-4381-A5C3-09D16554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3D165-3D4B-4159-9C3A-D4CFAB3D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CE625-4675-4E7D-8187-00C9B4D3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0094D-4282-4903-B59C-BE3D1F63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F231F-2DF9-47B1-A98D-580B3A22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B3D-3002-4F35-B0E1-70BDD1CA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870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E15CE-41DE-4068-8A41-48AAA013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ADAB5-CFBA-4FE3-82E5-227AEBD6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B7914-FFEF-4F0D-B7CE-5D0301F1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C8E50-8256-42B1-8D64-E2DF9C63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31A6B-F2F8-49FA-8F37-206009D2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05828-2CFB-48E8-82F0-EB749B2E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2C82E-B6CE-433F-A077-B7E5E813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1315-DB0F-4802-B8DA-2B9BA225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B95-BFDF-42A9-A211-475481CA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870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A962-C3F5-4CDC-8AF5-5061CEE2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7378-5DE1-49AF-B2B0-1241BFD3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F708-B3D7-4916-844E-CF5E35DE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62B-D54F-48D3-8378-5806D131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AF90-65B4-441A-8599-200F78C3E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639D-7B20-4F80-8942-1DFCD6F592A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52320" y="183240"/>
            <a:ext cx="1081080" cy="1797120"/>
          </a:xfrm>
          <a:custGeom>
            <a:avLst/>
            <a:gdLst>
              <a:gd name="textAreaLeft" fmla="*/ 0 w 1081080"/>
              <a:gd name="textAreaRight" fmla="*/ 1081080 w 1081080"/>
              <a:gd name="textAreaTop" fmla="*/ 0 h 1797120"/>
              <a:gd name="textAreaBottom" fmla="*/ 1797480 h 179712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8132400" y="485640"/>
            <a:ext cx="537840" cy="1376280"/>
          </a:xfrm>
          <a:custGeom>
            <a:avLst/>
            <a:gdLst>
              <a:gd name="textAreaLeft" fmla="*/ 0 w 537840"/>
              <a:gd name="textAreaRight" fmla="*/ 538200 w 5378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266760" y="5780160"/>
            <a:ext cx="1229760" cy="774720"/>
            <a:chOff x="266760" y="5780160"/>
            <a:chExt cx="1229760" cy="774720"/>
          </a:xfrm>
        </p:grpSpPr>
        <p:sp>
          <p:nvSpPr>
            <p:cNvPr id="50" name="Freeform 11"/>
            <p:cNvSpPr/>
            <p:nvPr/>
          </p:nvSpPr>
          <p:spPr>
            <a:xfrm>
              <a:off x="287280" y="5793840"/>
              <a:ext cx="1191600" cy="641160"/>
            </a:xfrm>
            <a:custGeom>
              <a:avLst/>
              <a:gdLst>
                <a:gd name="textAreaLeft" fmla="*/ 0 w 1191600"/>
                <a:gd name="textAreaRight" fmla="*/ 1191960 w 1191600"/>
                <a:gd name="textAreaTop" fmla="*/ 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379520" y="5870880"/>
              <a:ext cx="77400" cy="1270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282960" y="6061320"/>
              <a:ext cx="866880" cy="40320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401040" y="6094800"/>
              <a:ext cx="574560" cy="36792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92000" y="5821560"/>
              <a:ext cx="147600" cy="1191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963720" y="6443280"/>
              <a:ext cx="82080" cy="1116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12880" y="5895360"/>
              <a:ext cx="210960" cy="3780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992160" y="5878800"/>
              <a:ext cx="398160" cy="17136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640800" y="5980320"/>
              <a:ext cx="169560" cy="669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66960"/>
                <a:gd name="textAreaBottom" fmla="*/ 66960 h 669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266760" y="5780160"/>
              <a:ext cx="1229760" cy="769320"/>
              <a:chOff x="266760" y="5780160"/>
              <a:chExt cx="1229760" cy="76932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807120" y="5851080"/>
                <a:ext cx="599760" cy="698400"/>
                <a:chOff x="807120" y="5851080"/>
                <a:chExt cx="599760" cy="69840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807120" y="5876640"/>
                  <a:ext cx="172440" cy="85680"/>
                </a:xfrm>
                <a:custGeom>
                  <a:avLst/>
                  <a:gdLst>
                    <a:gd name="textAreaLeft" fmla="*/ 0 w 172440"/>
                    <a:gd name="textAreaRight" fmla="*/ 172800 w 17244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955440" y="6417000"/>
                  <a:ext cx="126000" cy="13248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32480"/>
                    <a:gd name="textAreaBottom" fmla="*/ 132840 h 13248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358640" y="5851080"/>
                  <a:ext cx="48240" cy="11484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114840"/>
                    <a:gd name="textAreaBottom" fmla="*/ 115200 h 11484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344160" y="6017760"/>
                <a:ext cx="650880" cy="24768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545760" y="6170760"/>
                <a:ext cx="266760" cy="14580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79480" y="5967360"/>
                <a:ext cx="117000" cy="23472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266760" y="5780160"/>
                <a:ext cx="1229760" cy="668880"/>
                <a:chOff x="266760" y="5780160"/>
                <a:chExt cx="1229760" cy="66888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993240" y="6328800"/>
                  <a:ext cx="82080" cy="853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266760" y="6014160"/>
                  <a:ext cx="922320" cy="434880"/>
                </a:xfrm>
                <a:custGeom>
                  <a:avLst/>
                  <a:gdLst>
                    <a:gd name="textAreaLeft" fmla="*/ 0 w 922320"/>
                    <a:gd name="textAreaRight" fmla="*/ 922680 w 922320"/>
                    <a:gd name="textAreaTop" fmla="*/ 0 h 434880"/>
                    <a:gd name="textAreaBottom" fmla="*/ 435240 h 43488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378360" y="6055560"/>
                  <a:ext cx="87480" cy="16416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164160"/>
                    <a:gd name="textAreaBottom" fmla="*/ 164520 h 1641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52400" y="5780160"/>
                  <a:ext cx="352080" cy="585360"/>
                </a:xfrm>
                <a:custGeom>
                  <a:avLst/>
                  <a:gdLst>
                    <a:gd name="textAreaLeft" fmla="*/ 0 w 352080"/>
                    <a:gd name="textAreaRight" fmla="*/ 352440 w 352080"/>
                    <a:gd name="textAreaTop" fmla="*/ 0 h 585360"/>
                    <a:gd name="textAreaBottom" fmla="*/ 585720 h 58536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893880" y="5938200"/>
                  <a:ext cx="104760" cy="24660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46600"/>
                    <a:gd name="textAreaBottom" fmla="*/ 246960 h 24660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619920" y="5917680"/>
                  <a:ext cx="210960" cy="13284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132840"/>
                    <a:gd name="textAreaBottom" fmla="*/ 133200 h 13284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981360" y="5827320"/>
                  <a:ext cx="515160" cy="208080"/>
                </a:xfrm>
                <a:custGeom>
                  <a:avLst/>
                  <a:gdLst>
                    <a:gd name="textAreaLeft" fmla="*/ 0 w 515160"/>
                    <a:gd name="textAreaRight" fmla="*/ 515520 w 51516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045800" y="5893920"/>
                  <a:ext cx="267840" cy="85320"/>
                </a:xfrm>
                <a:custGeom>
                  <a:avLst/>
                  <a:gdLst>
                    <a:gd name="textAreaLeft" fmla="*/ 0 w 267840"/>
                    <a:gd name="textAreaRight" fmla="*/ 268200 w 26784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269120" y="110520"/>
            <a:ext cx="2428560" cy="2248560"/>
            <a:chOff x="7269120" y="11052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269120" y="110520"/>
              <a:ext cx="2428560" cy="2248560"/>
              <a:chOff x="7269120" y="11052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718480" y="1919880"/>
                <a:ext cx="98280" cy="457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269120" y="110520"/>
                <a:ext cx="2428560" cy="2248560"/>
                <a:chOff x="7269120" y="11052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981560" y="30960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115480" y="72108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813440" y="48276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880400" y="16776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510760" y="161892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437680" y="147420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8011800" y="53028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955280" y="41868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829280" y="32976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2904-73B4-4EB2-B807-8B012D82B50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86040" y="2184120"/>
            <a:ext cx="586728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Technology for Educators</a:t>
            </a:r>
            <a:br>
              <a:rPr sz="4000"/>
            </a:br>
            <a:br>
              <a:rPr sz="4000"/>
            </a:b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July 6, 2010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UNCH BREAK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054160"/>
            <a:ext cx="4618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 begins at 11:45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t your computer station no later than 12:20 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 help during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5" descr="j0232101"/>
          <p:cNvPicPr/>
          <p:nvPr/>
        </p:nvPicPr>
        <p:blipFill>
          <a:blip r:embed="rId1"/>
          <a:stretch/>
        </p:blipFill>
        <p:spPr>
          <a:xfrm>
            <a:off x="5403960" y="2235240"/>
            <a:ext cx="282888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lug-in Exploratio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62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 two or three specific plug-ins with the goal of possible instructional use in the classroom or student tool for completing a proj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this tool be useful as you work with class and families? Plan to share your ideas tomorrow morn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ext steps - WebQuest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80920" y="1828440"/>
            <a:ext cx="778824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WebQu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   http://questgarden.com/85/80/8/090801155939/ (grade 4) http://questgarden.com/80/57/0/090421160455/  (grades 3-5)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questgarden.com/author/examplestop.ph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38040" y="380520"/>
            <a:ext cx="775656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lanning for tomorrow’s clas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625760"/>
            <a:ext cx="737388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ew WebQuest template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lesson you would like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content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possible 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ways you can incorporate one or two plug-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2"/>
          <p:cNvGraphicFramePr/>
          <p:nvPr/>
        </p:nvGraphicFramePr>
        <p:xfrm>
          <a:off x="4809960" y="5021280"/>
          <a:ext cx="2319480" cy="183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960" y="5021280"/>
                    <a:ext cx="231948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5"/>
          <p:cNvGraphicFramePr/>
          <p:nvPr/>
        </p:nvGraphicFramePr>
        <p:xfrm>
          <a:off x="6746760" y="4960800"/>
          <a:ext cx="2397240" cy="189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46760" y="4960800"/>
                    <a:ext cx="239724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79360"/>
            <a:ext cx="68706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Group debrief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4040" y="1236240"/>
            <a:ext cx="5238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like to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learn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in whole group by brainstor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highlights on class wiki discussion tab at http://techeducators2010.wikispaces.com/Instructional+Mater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1" descr="Child writing"/>
          <p:cNvPicPr/>
          <p:nvPr/>
        </p:nvPicPr>
        <p:blipFill>
          <a:blip r:embed="rId1"/>
          <a:stretch/>
        </p:blipFill>
        <p:spPr>
          <a:xfrm flipH="1">
            <a:off x="5824080" y="2184480"/>
            <a:ext cx="2714760" cy="2539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ll About the Clas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3080"/>
            <a:ext cx="7696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wiki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echeducators2010.wikispaces.com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One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s for tomorrow’s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for this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77920" y="282600"/>
            <a:ext cx="77565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Overview of today’s activities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1680" y="1604880"/>
            <a:ext cx="85122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Int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Ranking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out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strate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Point to share developing unit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individual wikispace and upload unit PPT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rief with team collabo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head to tomorrow’s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02680" y="744120"/>
            <a:ext cx="768852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Who we are . . . introductions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2545920"/>
            <a:ext cx="3776760" cy="29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ents with Word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venger h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School bus"/>
          <p:cNvPicPr/>
          <p:nvPr/>
        </p:nvPicPr>
        <p:blipFill>
          <a:blip r:embed="rId1"/>
          <a:stretch/>
        </p:blipFill>
        <p:spPr>
          <a:xfrm>
            <a:off x="4748040" y="1828800"/>
            <a:ext cx="34959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urse Wiki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ew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one lesson—digital or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day’s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Content Placeholder 4" descr=""/>
          <p:cNvPicPr/>
          <p:nvPr/>
        </p:nvPicPr>
        <p:blipFill>
          <a:blip r:embed="rId1"/>
          <a:srcRect l="0" t="0" r="0" b="2761"/>
          <a:stretch/>
        </p:blipFill>
        <p:spPr>
          <a:xfrm>
            <a:off x="4610160" y="2282760"/>
            <a:ext cx="3771720" cy="2749680"/>
          </a:xfrm>
          <a:prstGeom prst="rect">
            <a:avLst/>
          </a:prstGeom>
          <a:ln w="9360">
            <a:solidFill>
              <a:srgbClr val="bf0000"/>
            </a:solidFill>
            <a:miter/>
          </a:ln>
        </p:spPr>
      </p:pic>
      <p:sp>
        <p:nvSpPr>
          <p:cNvPr id="210" name="AutoShape 2"/>
          <p:cNvSpPr/>
          <p:nvPr/>
        </p:nvSpPr>
        <p:spPr>
          <a:xfrm>
            <a:off x="2095560" y="6010200"/>
            <a:ext cx="6573600" cy="418320"/>
          </a:xfrm>
          <a:prstGeom prst="bracketPair">
            <a:avLst>
              <a:gd name="adj" fmla="val 805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ttp://techeducators2010.wikispaces.com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5316480" y="2459160"/>
            <a:ext cx="3014640" cy="273600"/>
          </a:xfrm>
          <a:prstGeom prst="bracketPair">
            <a:avLst>
              <a:gd name="adj" fmla="val 805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Verdana"/>
              </a:rPr>
              <a:t>htt</a:t>
            </a:r>
            <a:r>
              <a:rPr b="1" i="1" lang="en-US" sz="800" spc="-1" strike="noStrike">
                <a:solidFill>
                  <a:srgbClr val="000000"/>
                </a:solidFill>
                <a:latin typeface="Verdana"/>
              </a:rPr>
              <a:t>p://techeducators2010.wikispaces.com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07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mplications of web 2.0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29960"/>
            <a:ext cx="3772080" cy="37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imperative fo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vimeo.com/442990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objectives in educ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http://camppbworks2010.pbworks.com/f/web20%20next%20generation%20image.jpg"/>
          <p:cNvPicPr/>
          <p:nvPr/>
        </p:nvPicPr>
        <p:blipFill>
          <a:blip r:embed="rId1"/>
          <a:stretch/>
        </p:blipFill>
        <p:spPr>
          <a:xfrm>
            <a:off x="4503600" y="1930320"/>
            <a:ext cx="4135680" cy="387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Object 3"/>
          <p:cNvGraphicFramePr/>
          <p:nvPr/>
        </p:nvGraphicFramePr>
        <p:xfrm>
          <a:off x="2630520" y="5353200"/>
          <a:ext cx="1281240" cy="101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30520" y="5353200"/>
                    <a:ext cx="128124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63240"/>
            <a:ext cx="8145360" cy="9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hat does this mean for you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6760" y="1472760"/>
            <a:ext cx="765324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’ needs in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bility and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curriculum and instr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Visual Ranking 1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ranking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as pairs in completing the ranking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Visual Ranking introductory page for teaching strategies and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possibilities for use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eb 2.0 Plug-in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gster poster expl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 Educator plugin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favorite two or three plug-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s to incorporate plug-ins for instructional purposes and/or student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8T04:59:05Z</dcterms:created>
  <dc:creator>jeanne butcher</dc:creator>
  <dc:description/>
  <dc:language>en-US</dc:language>
  <cp:lastModifiedBy>jeanne</cp:lastModifiedBy>
  <dcterms:modified xsi:type="dcterms:W3CDTF">2010-07-05T01:22:03Z</dcterms:modified>
  <cp:revision>59</cp:revision>
  <dc:subject/>
  <dc:title>Ms. Decker’s Third- Grade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7211033</vt:lpwstr>
  </property>
</Properties>
</file>